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sting.wav" ContentType="audio/x-wav"/>
  <Override PartName="/ppt/media/drumroll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D2B-7EF8-4446-A606-511486E0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5B9-20FC-44CA-B120-F3041BE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F55-39F7-4B9F-B4B8-E9A588B2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B17-0A61-4FC3-B619-55296CAB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769-6B16-4164-9E1C-500CA44D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93B-F561-4B0F-9D96-00DC8607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67D-142E-430E-8B75-D5A9F72F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618-3F61-4AA3-93E6-9C58FE1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6BB-FBA3-4F09-B4F6-501B2424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29D-CCAC-4A07-81C3-28329101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EBC-9572-4334-95D9-40D535C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5D4-1CD4-41CF-A3EA-BC97DEAF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33B-20E3-4334-BA0C-66BB8D6F4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57400" y="3048120"/>
            <a:ext cx="5105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vie"/>
              </a:rPr>
              <a:t>Scie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vie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vie"/>
              </a:rPr>
              <a:t>Ed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6" descr="ag00317_"/>
          <p:cNvPicPr/>
          <p:nvPr/>
        </p:nvPicPr>
        <p:blipFill>
          <a:blip r:embed="rId1"/>
          <a:stretch/>
        </p:blipFill>
        <p:spPr>
          <a:xfrm>
            <a:off x="6781680" y="3505320"/>
            <a:ext cx="17208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ag00315_"/>
          <p:cNvPicPr/>
          <p:nvPr/>
        </p:nvPicPr>
        <p:blipFill>
          <a:blip r:embed="rId2"/>
          <a:stretch/>
        </p:blipFill>
        <p:spPr>
          <a:xfrm>
            <a:off x="457200" y="38098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46836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resource that comes from nature is 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Natural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Nature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To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iece of pap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resource that comes from nature is 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n you use things again, you ____ th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e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k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re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cre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n you use things again, you ____ th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something people can use to meet their need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 a toothbru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wa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 li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something people can use to meet their need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ste that harms air, water, or land is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lled wha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Dirty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Ha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ste that harms air, water, or land is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lled wha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opher 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o de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r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ride a bike instead of driving a car, what happens to poll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 it incr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it gets reduc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it stays the s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it chan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ets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ride a bike instead of driving a car, what happens to poll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68436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68360" y="5661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ald D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very few animals of a certain kind are left, that kind of animal is wha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extin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endange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in trou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a polar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take more of a resource than you need it is called 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Wa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tte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Being gree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eu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take more of a resource than you need it is called 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ra made a bird feeder from a milk carton. What did she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pollu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wa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e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ra made a bird feeder from a milk carton. What did she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 and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natural resource is burned as fu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 a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so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ang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very few animals of a certain kind are left, that kind of animal is wha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45720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natural resource is burned as fu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t Dis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y Flag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am Pope Du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can bricks be made fr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tr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cl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anim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can bricks be made fr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es litter hurt pla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e litter makes plants di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e plants cannot get ai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nts cannot get light to make foo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tter hides the plants from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nts cannot get light to mak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does litter hurt plan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is not a resou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ti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oc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w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tr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is not a resou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Jackson and Bill Clin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Jackson and Andrew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Clinton and Andrew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Clinton and James Bucha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does not hur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rowing trash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that sw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tha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does not hur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w can people harm natural resour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ey can save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ey can waste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y can reuse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ey can protect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was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w can people harm natural resour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gna Ch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y-Do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it called when you use old things to make new thing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repa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re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it called when you use old things to make new thing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4:39:49Z</dcterms:created>
  <dc:creator>STNG11</dc:creator>
  <dc:description/>
  <dc:language>en-US</dc:language>
  <cp:lastModifiedBy>Tara Schwartz</cp:lastModifiedBy>
  <dcterms:modified xsi:type="dcterms:W3CDTF">2008-03-03T05:24:43Z</dcterms:modified>
  <cp:revision>13</cp:revision>
  <dc:subject/>
  <dc:title>Who Wants To Be A Millionaire?  </dc:title>
</cp:coreProperties>
</file>